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4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.gif" ContentType="image/gif"/>
  <Override PartName="/ppt/media/image12.wmf" ContentType="image/x-wmf"/>
  <Override PartName="/ppt/media/image8.wmf" ContentType="image/x-wmf"/>
  <Override PartName="/ppt/media/image10.gif" ContentType="image/gi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BB62-B0E8-45BD-9F15-2B21337B7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8C03-533F-4591-868B-D050CFE8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E728-DA56-40F3-A86C-8D074BFFF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C2EF-8982-4BD5-97B7-F0602407C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AE6E-ABC3-4B7B-B042-B029A2156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1923-EC2C-4121-985F-C3ABF8CC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BE28-C64C-43A0-8975-5D852603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7908-C097-45E7-90D1-EA42C59C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C119-9A91-468A-94EE-3D759650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2216-F378-4AC1-B95A-67C19BBB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293F-CF6D-4DB1-83A0-AEDABB54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D5AA-27CE-47B9-AACB-BE743063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26CC-B0F5-4D62-AFFA-BE2491DA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21A9-4A0B-49E5-9297-6AF64AF7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DDC6-F41F-485B-9532-F128587D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8EB1-4354-4384-B27B-7CE93B7DD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2E03-31C5-45DC-B198-602AEB18B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F5B8-FA06-47E5-9374-965E5691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CE9C-0095-4045-851E-3FC68C92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FBFC-ED71-4F11-BE7E-F6D45A9C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0C2B-C211-4863-8C7B-7C4E7C18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8B6F-7F21-41BE-86E0-8679222B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ABD1-F5BE-45EE-951B-FBC3C769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C6E4-AE7B-4EDF-83AA-1ED10BF8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5B74-8B48-4292-A458-6863CEBCFB12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1CA6-6EBD-43CE-96EE-B5FEA999FCDE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ecff"/>
                </a:solidFill>
                <a:latin typeface="Comic Sans MS"/>
              </a:rPr>
              <a:t>Trouvez l’intrus…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50920" y="1341360"/>
          <a:ext cx="8893080" cy="5256360"/>
        </p:xfrm>
        <a:graphic>
          <a:graphicData uri="http://schemas.openxmlformats.org/drawingml/2006/table">
            <a:tbl>
              <a:tblPr/>
              <a:tblGrid>
                <a:gridCol w="2222280"/>
                <a:gridCol w="2225880"/>
                <a:gridCol w="2222280"/>
                <a:gridCol w="2222640"/>
              </a:tblGrid>
              <a:tr h="978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l fait bea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l pleu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l fait du solei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l fait chau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l neig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l pleuva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l a fait froi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l faisait du v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2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e troisième jour de mes vacanc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Un jou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hi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ous les jou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l fait de l’orag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l a fait du brouillard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l faisait du soleil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l y avait des averse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0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ix jour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e 15 octobr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Une sema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eux moi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3"/>
          <p:cNvSpPr/>
          <p:nvPr/>
        </p:nvSpPr>
        <p:spPr>
          <a:xfrm>
            <a:off x="684360" y="333360"/>
            <a:ext cx="6840360" cy="865080"/>
          </a:xfrm>
          <a:prstGeom prst="wedgeRoundRectCallout">
            <a:avLst>
              <a:gd name="adj1" fmla="val 65199"/>
              <a:gd name="adj2" fmla="val 36421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vez-vous une chambre de libre, s‘il vous plaî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684360" y="2349360"/>
            <a:ext cx="7272360" cy="863640"/>
          </a:xfrm>
          <a:prstGeom prst="wedgeRoundRectCallout">
            <a:avLst>
              <a:gd name="adj1" fmla="val 61287"/>
              <a:gd name="adj2" fmla="val 17277"/>
              <a:gd name="adj3" fmla="val 16667"/>
            </a:avLst>
          </a:prstGeom>
          <a:solidFill>
            <a:srgbClr val="ffff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Je voudrais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une chambre double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avec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salle de bains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et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vue sur la mer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755640" y="3500280"/>
            <a:ext cx="7201080" cy="503280"/>
          </a:xfrm>
          <a:prstGeom prst="wedgeRoundRectCallout">
            <a:avLst>
              <a:gd name="adj1" fmla="val -58222"/>
              <a:gd name="adj2" fmla="val -87856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C’est pour combien de nuit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8"/>
          <p:cNvSpPr/>
          <p:nvPr/>
        </p:nvSpPr>
        <p:spPr>
          <a:xfrm>
            <a:off x="539640" y="4221000"/>
            <a:ext cx="7417080" cy="503280"/>
          </a:xfrm>
          <a:prstGeom prst="wedgeRoundRectCallout">
            <a:avLst>
              <a:gd name="adj1" fmla="val 62606"/>
              <a:gd name="adj2" fmla="val 37379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C’est pour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deux nuits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du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7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ou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9 mai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9"/>
          <p:cNvSpPr/>
          <p:nvPr/>
        </p:nvSpPr>
        <p:spPr>
          <a:xfrm>
            <a:off x="250920" y="5516640"/>
            <a:ext cx="7921440" cy="431640"/>
          </a:xfrm>
          <a:prstGeom prst="wedgeRoundRectCallout">
            <a:avLst>
              <a:gd name="adj1" fmla="val 61564"/>
              <a:gd name="adj2" fmla="val 1101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Est-ce qu’il y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une piscine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10"/>
          <p:cNvSpPr/>
          <p:nvPr/>
        </p:nvSpPr>
        <p:spPr>
          <a:xfrm>
            <a:off x="826920" y="6165720"/>
            <a:ext cx="7418520" cy="503280"/>
          </a:xfrm>
          <a:prstGeom prst="wedgeRoundRectCallout">
            <a:avLst>
              <a:gd name="adj1" fmla="val -58152"/>
              <a:gd name="adj2" fmla="val -71449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Non, mais il y a un sau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611280" y="4797360"/>
            <a:ext cx="7200720" cy="576360"/>
          </a:xfrm>
          <a:prstGeom prst="wedgeRoundRectCallout">
            <a:avLst>
              <a:gd name="adj1" fmla="val -58157"/>
              <a:gd name="adj2" fmla="val -53305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Pas de problème. Je vous la réser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12"/>
          <p:cNvSpPr/>
          <p:nvPr/>
        </p:nvSpPr>
        <p:spPr>
          <a:xfrm>
            <a:off x="755640" y="1628640"/>
            <a:ext cx="7056360" cy="576360"/>
          </a:xfrm>
          <a:prstGeom prst="wedgeRoundRectCallout">
            <a:avLst>
              <a:gd name="adj1" fmla="val -57287"/>
              <a:gd name="adj2" fmla="val -75342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Oui. Quelle sorte de chambre voulez-vou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Comic Sans MS"/>
              </a:rPr>
              <a:t>Objectives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814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By the end of the lesson you will be able to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Book an hotel room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To ask questions about the faciliti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4" name="Picture 4" descr="bwires"/>
          <p:cNvPicPr/>
          <p:nvPr/>
        </p:nvPicPr>
        <p:blipFill>
          <a:blip r:embed="rId1"/>
          <a:stretch/>
        </p:blipFill>
        <p:spPr>
          <a:xfrm>
            <a:off x="6588000" y="4437000"/>
            <a:ext cx="237672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Alors??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Ask for a single with show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Ask for a double room for two night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Ask if there is a restaura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Ask if there is a lift…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Comic Sans MS"/>
              </a:rPr>
              <a:t>Objectives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814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By the end of the lesson you will be able to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Book an hotel room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To ask questions about the faciliti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Picture 4" descr="bwires"/>
          <p:cNvPicPr/>
          <p:nvPr/>
        </p:nvPicPr>
        <p:blipFill>
          <a:blip r:embed="rId1"/>
          <a:stretch/>
        </p:blipFill>
        <p:spPr>
          <a:xfrm>
            <a:off x="6588000" y="4437000"/>
            <a:ext cx="237672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À l’hôtel…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2" name="Picture 12" descr="j0383426"/>
          <p:cNvPicPr/>
          <p:nvPr/>
        </p:nvPicPr>
        <p:blipFill>
          <a:blip r:embed="rId1"/>
          <a:stretch/>
        </p:blipFill>
        <p:spPr>
          <a:xfrm>
            <a:off x="2268360" y="2205000"/>
            <a:ext cx="3848400" cy="403236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16"/>
          <p:cNvSpPr/>
          <p:nvPr/>
        </p:nvSpPr>
        <p:spPr>
          <a:xfrm>
            <a:off x="6264360" y="1989000"/>
            <a:ext cx="2879640" cy="1224000"/>
          </a:xfrm>
          <a:prstGeom prst="wedgeRoundRectCallout">
            <a:avLst>
              <a:gd name="adj1" fmla="val -105898"/>
              <a:gd name="adj2" fmla="val 67898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on, désolé.C’est complet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17"/>
          <p:cNvSpPr/>
          <p:nvPr/>
        </p:nvSpPr>
        <p:spPr>
          <a:xfrm>
            <a:off x="6264360" y="4653000"/>
            <a:ext cx="2879640" cy="720720"/>
          </a:xfrm>
          <a:prstGeom prst="wedgeRoundRectCallout">
            <a:avLst>
              <a:gd name="adj1" fmla="val -103527"/>
              <a:gd name="adj2" fmla="val -211893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ui, bien sû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18"/>
          <p:cNvSpPr/>
          <p:nvPr/>
        </p:nvSpPr>
        <p:spPr>
          <a:xfrm>
            <a:off x="179280" y="1484280"/>
            <a:ext cx="6840720" cy="503280"/>
          </a:xfrm>
          <a:prstGeom prst="wedgeRoundRectCallout">
            <a:avLst>
              <a:gd name="adj1" fmla="val 453"/>
              <a:gd name="adj2" fmla="val 293847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vez-vous une chambre de libre, s‘il vous plaî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j0383426"/>
          <p:cNvPicPr/>
          <p:nvPr/>
        </p:nvPicPr>
        <p:blipFill>
          <a:blip r:embed="rId1"/>
          <a:stretch/>
        </p:blipFill>
        <p:spPr>
          <a:xfrm>
            <a:off x="250920" y="189000"/>
            <a:ext cx="1687320" cy="181908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6"/>
          <p:cNvSpPr/>
          <p:nvPr/>
        </p:nvSpPr>
        <p:spPr>
          <a:xfrm>
            <a:off x="1476360" y="189000"/>
            <a:ext cx="7488360" cy="576000"/>
          </a:xfrm>
          <a:prstGeom prst="wedgeRoundRectCallout">
            <a:avLst>
              <a:gd name="adj1" fmla="val -54199"/>
              <a:gd name="adj2" fmla="val 117768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Quelle sorte de chambre voulez-vou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8"/>
          <p:cNvSpPr/>
          <p:nvPr/>
        </p:nvSpPr>
        <p:spPr>
          <a:xfrm>
            <a:off x="250920" y="2133720"/>
            <a:ext cx="8893080" cy="4103640"/>
          </a:xfrm>
          <a:prstGeom prst="wedgeRoundRectCallout">
            <a:avLst>
              <a:gd name="adj1" fmla="val -40787"/>
              <a:gd name="adj2" fmla="val -79245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Je voudrai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39" descr="j0207562"/>
          <p:cNvPicPr/>
          <p:nvPr/>
        </p:nvPicPr>
        <p:blipFill>
          <a:blip r:embed="rId2"/>
          <a:stretch/>
        </p:blipFill>
        <p:spPr>
          <a:xfrm>
            <a:off x="4643280" y="2998800"/>
            <a:ext cx="1940040" cy="752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2" descr="j0207528"/>
          <p:cNvPicPr/>
          <p:nvPr/>
        </p:nvPicPr>
        <p:blipFill>
          <a:blip r:embed="rId3"/>
          <a:stretch/>
        </p:blipFill>
        <p:spPr>
          <a:xfrm>
            <a:off x="2843280" y="2852640"/>
            <a:ext cx="1081080" cy="6350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4" descr="j0207528"/>
          <p:cNvPicPr/>
          <p:nvPr/>
        </p:nvPicPr>
        <p:blipFill>
          <a:blip r:embed="rId4"/>
          <a:stretch/>
        </p:blipFill>
        <p:spPr>
          <a:xfrm>
            <a:off x="684360" y="2852640"/>
            <a:ext cx="1008000" cy="938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6" descr="j0207528"/>
          <p:cNvPicPr/>
          <p:nvPr/>
        </p:nvPicPr>
        <p:blipFill>
          <a:blip r:embed="rId5"/>
          <a:stretch/>
        </p:blipFill>
        <p:spPr>
          <a:xfrm>
            <a:off x="2556000" y="2998800"/>
            <a:ext cx="1295280" cy="758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7" descr="j0207562"/>
          <p:cNvPicPr/>
          <p:nvPr/>
        </p:nvPicPr>
        <p:blipFill>
          <a:blip r:embed="rId6"/>
          <a:stretch/>
        </p:blipFill>
        <p:spPr>
          <a:xfrm>
            <a:off x="6877080" y="3213000"/>
            <a:ext cx="1940040" cy="7542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8" descr="j0207528"/>
          <p:cNvPicPr/>
          <p:nvPr/>
        </p:nvPicPr>
        <p:blipFill>
          <a:blip r:embed="rId7"/>
          <a:stretch/>
        </p:blipFill>
        <p:spPr>
          <a:xfrm flipH="1">
            <a:off x="7812000" y="3357720"/>
            <a:ext cx="1332000" cy="7808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9"/>
          <p:cNvSpPr/>
          <p:nvPr/>
        </p:nvSpPr>
        <p:spPr>
          <a:xfrm>
            <a:off x="395280" y="3933720"/>
            <a:ext cx="187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Une chambre pour une person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50"/>
          <p:cNvSpPr/>
          <p:nvPr/>
        </p:nvSpPr>
        <p:spPr>
          <a:xfrm>
            <a:off x="2411280" y="4076640"/>
            <a:ext cx="20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Une chambre pour deux personnes avec deux petits li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51"/>
          <p:cNvSpPr/>
          <p:nvPr/>
        </p:nvSpPr>
        <p:spPr>
          <a:xfrm>
            <a:off x="4788000" y="422100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Une chambre dou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52"/>
          <p:cNvSpPr/>
          <p:nvPr/>
        </p:nvSpPr>
        <p:spPr>
          <a:xfrm>
            <a:off x="6804000" y="429264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Une chambre de famil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j0383426"/>
          <p:cNvPicPr/>
          <p:nvPr/>
        </p:nvPicPr>
        <p:blipFill>
          <a:blip r:embed="rId1"/>
          <a:stretch/>
        </p:blipFill>
        <p:spPr>
          <a:xfrm>
            <a:off x="250920" y="189000"/>
            <a:ext cx="1687320" cy="181908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3"/>
          <p:cNvSpPr/>
          <p:nvPr/>
        </p:nvSpPr>
        <p:spPr>
          <a:xfrm>
            <a:off x="1476360" y="189000"/>
            <a:ext cx="7488360" cy="576000"/>
          </a:xfrm>
          <a:prstGeom prst="wedgeRoundRectCallout">
            <a:avLst>
              <a:gd name="adj1" fmla="val -53796"/>
              <a:gd name="adj2" fmla="val 47245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Quelle sorte de chambre voulez-vou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250920" y="2708280"/>
            <a:ext cx="8713800" cy="2951280"/>
          </a:xfrm>
          <a:prstGeom prst="wedgeRoundRectCallout">
            <a:avLst>
              <a:gd name="adj1" fmla="val -40597"/>
              <a:gd name="adj2" fmla="val -110138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Je voudrais une chambre…avec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611280" y="4581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dou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1763640" y="4581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salle de bai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3924360" y="45086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WC/toilet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16" descr="BD00045_"/>
          <p:cNvPicPr/>
          <p:nvPr/>
        </p:nvPicPr>
        <p:blipFill>
          <a:blip r:embed="rId2"/>
          <a:stretch/>
        </p:blipFill>
        <p:spPr>
          <a:xfrm>
            <a:off x="539640" y="3357720"/>
            <a:ext cx="1008000" cy="966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8" descr="HH01602_"/>
          <p:cNvPicPr/>
          <p:nvPr/>
        </p:nvPicPr>
        <p:blipFill>
          <a:blip r:embed="rId3"/>
          <a:stretch/>
        </p:blipFill>
        <p:spPr>
          <a:xfrm>
            <a:off x="2195640" y="3429000"/>
            <a:ext cx="1081080" cy="9050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0" descr="HH01534_"/>
          <p:cNvPicPr/>
          <p:nvPr/>
        </p:nvPicPr>
        <p:blipFill>
          <a:blip r:embed="rId4"/>
          <a:stretch/>
        </p:blipFill>
        <p:spPr>
          <a:xfrm>
            <a:off x="4356000" y="3429000"/>
            <a:ext cx="750960" cy="8618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1" descr="BD09187_"/>
          <p:cNvPicPr/>
          <p:nvPr/>
        </p:nvPicPr>
        <p:blipFill>
          <a:blip r:embed="rId5"/>
          <a:stretch/>
        </p:blipFill>
        <p:spPr>
          <a:xfrm>
            <a:off x="5796000" y="3284640"/>
            <a:ext cx="1095480" cy="11412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22"/>
          <p:cNvSpPr/>
          <p:nvPr/>
        </p:nvSpPr>
        <p:spPr>
          <a:xfrm>
            <a:off x="5867280" y="4581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alc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4"/>
          <p:cNvSpPr/>
          <p:nvPr/>
        </p:nvSpPr>
        <p:spPr>
          <a:xfrm>
            <a:off x="7270920" y="465300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vue sur la 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25" descr="j0303361"/>
          <p:cNvPicPr/>
          <p:nvPr/>
        </p:nvPicPr>
        <p:blipFill>
          <a:blip r:embed="rId6"/>
          <a:stretch/>
        </p:blipFill>
        <p:spPr>
          <a:xfrm>
            <a:off x="7524720" y="3357720"/>
            <a:ext cx="115272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3"/>
          <p:cNvSpPr/>
          <p:nvPr/>
        </p:nvSpPr>
        <p:spPr>
          <a:xfrm>
            <a:off x="1476360" y="189000"/>
            <a:ext cx="7488360" cy="576000"/>
          </a:xfrm>
          <a:prstGeom prst="wedgeRoundRectCallout">
            <a:avLst>
              <a:gd name="adj1" fmla="val -56125"/>
              <a:gd name="adj2" fmla="val 14462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Quelle sorte de chambre voulez-vou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39640" y="1197000"/>
          <a:ext cx="8280360" cy="5486400"/>
        </p:xfrm>
        <a:graphic>
          <a:graphicData uri="http://schemas.openxmlformats.org/drawingml/2006/table">
            <a:tbl>
              <a:tblPr/>
              <a:tblGrid>
                <a:gridCol w="2073240"/>
                <a:gridCol w="3399120"/>
                <a:gridCol w="1081080"/>
                <a:gridCol w="1726920"/>
              </a:tblGrid>
              <a:tr h="5518440"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voudra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une chambre pour une person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Une chambre dou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Une chambre de famil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Une chambre pour deux personnes avec deux petits lit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ve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douch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alle de bain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oilette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alco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vue sur la mer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j0383426"/>
          <p:cNvPicPr/>
          <p:nvPr/>
        </p:nvPicPr>
        <p:blipFill>
          <a:blip r:embed="rId1"/>
          <a:stretch/>
        </p:blipFill>
        <p:spPr>
          <a:xfrm>
            <a:off x="250920" y="260280"/>
            <a:ext cx="1687320" cy="181944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6"/>
          <p:cNvSpPr/>
          <p:nvPr/>
        </p:nvSpPr>
        <p:spPr>
          <a:xfrm>
            <a:off x="3564000" y="404640"/>
            <a:ext cx="4392720" cy="1008360"/>
          </a:xfrm>
          <a:prstGeom prst="wedgeRoundRectCallout">
            <a:avLst>
              <a:gd name="adj1" fmla="val -93800"/>
              <a:gd name="adj2" fmla="val 8740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’est pour combien de nui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754200" y="2421000"/>
            <a:ext cx="8389800" cy="2592360"/>
          </a:xfrm>
          <a:prstGeom prst="wedgeRoundRectCallout">
            <a:avLst>
              <a:gd name="adj1" fmla="val -44097"/>
              <a:gd name="adj2" fmla="val -104625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’est pou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1187280" y="350028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X 1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8"/>
          <p:cNvSpPr/>
          <p:nvPr/>
        </p:nvSpPr>
        <p:spPr>
          <a:xfrm>
            <a:off x="3564000" y="342900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X 3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9"/>
          <p:cNvSpPr/>
          <p:nvPr/>
        </p:nvSpPr>
        <p:spPr>
          <a:xfrm>
            <a:off x="5940360" y="342900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X 7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26" descr="j0283270"/>
          <p:cNvPicPr/>
          <p:nvPr/>
        </p:nvPicPr>
        <p:blipFill>
          <a:blip r:embed="rId2"/>
          <a:stretch/>
        </p:blipFill>
        <p:spPr>
          <a:xfrm>
            <a:off x="6948360" y="3284640"/>
            <a:ext cx="924120" cy="6951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0" descr="j0283270"/>
          <p:cNvPicPr/>
          <p:nvPr/>
        </p:nvPicPr>
        <p:blipFill>
          <a:blip r:embed="rId3"/>
          <a:stretch/>
        </p:blipFill>
        <p:spPr>
          <a:xfrm>
            <a:off x="2050920" y="3357720"/>
            <a:ext cx="924120" cy="6951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2" descr="j0283270"/>
          <p:cNvPicPr/>
          <p:nvPr/>
        </p:nvPicPr>
        <p:blipFill>
          <a:blip r:embed="rId4"/>
          <a:stretch/>
        </p:blipFill>
        <p:spPr>
          <a:xfrm>
            <a:off x="4500720" y="3284640"/>
            <a:ext cx="92376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j0383426"/>
          <p:cNvPicPr/>
          <p:nvPr/>
        </p:nvPicPr>
        <p:blipFill>
          <a:blip r:embed="rId1"/>
          <a:stretch/>
        </p:blipFill>
        <p:spPr>
          <a:xfrm>
            <a:off x="324000" y="333360"/>
            <a:ext cx="1687320" cy="181944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4"/>
          <p:cNvSpPr/>
          <p:nvPr/>
        </p:nvSpPr>
        <p:spPr>
          <a:xfrm>
            <a:off x="324000" y="1773360"/>
            <a:ext cx="4679640" cy="4751280"/>
          </a:xfrm>
          <a:prstGeom prst="wedgeRoundRectCallout">
            <a:avLst>
              <a:gd name="adj1" fmla="val -34902"/>
              <a:gd name="adj2" fmla="val -68842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st-ce qu’il y a…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22" descr="SY01504_"/>
          <p:cNvPicPr/>
          <p:nvPr/>
        </p:nvPicPr>
        <p:blipFill>
          <a:blip r:embed="rId2"/>
          <a:stretch/>
        </p:blipFill>
        <p:spPr>
          <a:xfrm>
            <a:off x="539640" y="2492280"/>
            <a:ext cx="1187640" cy="11988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5" descr="BD00041_"/>
          <p:cNvPicPr/>
          <p:nvPr/>
        </p:nvPicPr>
        <p:blipFill>
          <a:blip r:embed="rId3"/>
          <a:stretch/>
        </p:blipFill>
        <p:spPr>
          <a:xfrm>
            <a:off x="2627280" y="2492280"/>
            <a:ext cx="1225440" cy="11746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7" descr="BD05406_"/>
          <p:cNvPicPr/>
          <p:nvPr/>
        </p:nvPicPr>
        <p:blipFill>
          <a:blip r:embed="rId4"/>
          <a:stretch/>
        </p:blipFill>
        <p:spPr>
          <a:xfrm>
            <a:off x="611280" y="4653000"/>
            <a:ext cx="1152360" cy="1117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9" descr="w0x3wgvm[1]"/>
          <p:cNvPicPr/>
          <p:nvPr/>
        </p:nvPicPr>
        <p:blipFill>
          <a:blip r:embed="rId5"/>
          <a:stretch/>
        </p:blipFill>
        <p:spPr>
          <a:xfrm>
            <a:off x="2843280" y="4653000"/>
            <a:ext cx="1081080" cy="104292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30"/>
          <p:cNvSpPr/>
          <p:nvPr/>
        </p:nvSpPr>
        <p:spPr>
          <a:xfrm>
            <a:off x="539640" y="393372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Un par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32"/>
          <p:cNvSpPr/>
          <p:nvPr/>
        </p:nvSpPr>
        <p:spPr>
          <a:xfrm>
            <a:off x="2340000" y="3933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Un restaur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34"/>
          <p:cNvSpPr/>
          <p:nvPr/>
        </p:nvSpPr>
        <p:spPr>
          <a:xfrm>
            <a:off x="395280" y="59500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Une pisc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35"/>
          <p:cNvSpPr/>
          <p:nvPr/>
        </p:nvSpPr>
        <p:spPr>
          <a:xfrm>
            <a:off x="2411280" y="59500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Un ascense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AutoShape 36"/>
          <p:cNvSpPr/>
          <p:nvPr/>
        </p:nvSpPr>
        <p:spPr>
          <a:xfrm>
            <a:off x="5148360" y="404640"/>
            <a:ext cx="2879640" cy="648000"/>
          </a:xfrm>
          <a:prstGeom prst="wedgeRoundRectCallout">
            <a:avLst>
              <a:gd name="adj1" fmla="val -178060"/>
              <a:gd name="adj2" fmla="val 16175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on, désolé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AutoShape 37"/>
          <p:cNvSpPr/>
          <p:nvPr/>
        </p:nvSpPr>
        <p:spPr>
          <a:xfrm>
            <a:off x="5364000" y="1557360"/>
            <a:ext cx="2880000" cy="647640"/>
          </a:xfrm>
          <a:prstGeom prst="wedgeRoundRectCallout">
            <a:avLst>
              <a:gd name="adj1" fmla="val -178060"/>
              <a:gd name="adj2" fmla="val -128430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ui, bien sûr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ecff"/>
                </a:solidFill>
                <a:latin typeface="Sydnie"/>
              </a:rPr>
              <a:t>Remettez le dialogue dans l’ordr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AutoShape 4"/>
          <p:cNvSpPr/>
          <p:nvPr/>
        </p:nvSpPr>
        <p:spPr>
          <a:xfrm>
            <a:off x="324000" y="5229360"/>
            <a:ext cx="3851280" cy="865080"/>
          </a:xfrm>
          <a:prstGeom prst="wedgeRoundRectCallout">
            <a:avLst>
              <a:gd name="adj1" fmla="val 63398"/>
              <a:gd name="adj2" fmla="val 305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vez-vous une chambre de libre, s‘il vous plaî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5"/>
          <p:cNvSpPr/>
          <p:nvPr/>
        </p:nvSpPr>
        <p:spPr>
          <a:xfrm>
            <a:off x="4643280" y="3213000"/>
            <a:ext cx="3961080" cy="1152720"/>
          </a:xfrm>
          <a:prstGeom prst="wedgeRoundRectCallout">
            <a:avLst>
              <a:gd name="adj1" fmla="val 57657"/>
              <a:gd name="adj2" fmla="val -53856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Oui. Quelle sorte de chambre voulez-vou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684360" y="1341360"/>
            <a:ext cx="2950920" cy="1440000"/>
          </a:xfrm>
          <a:prstGeom prst="wedgeRoundRectCallout">
            <a:avLst>
              <a:gd name="adj1" fmla="val -65439"/>
              <a:gd name="adj2" fmla="val 3246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Je voudrais une chambre double avec salle de bains et vue sur la m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8"/>
          <p:cNvSpPr/>
          <p:nvPr/>
        </p:nvSpPr>
        <p:spPr>
          <a:xfrm>
            <a:off x="4572000" y="1557360"/>
            <a:ext cx="4248000" cy="503280"/>
          </a:xfrm>
          <a:prstGeom prst="wedgeRoundRectCallout">
            <a:avLst>
              <a:gd name="adj1" fmla="val 51833"/>
              <a:gd name="adj2" fmla="val -98263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C’est pour combien de nuit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9"/>
          <p:cNvSpPr/>
          <p:nvPr/>
        </p:nvSpPr>
        <p:spPr>
          <a:xfrm>
            <a:off x="539640" y="4221000"/>
            <a:ext cx="3025800" cy="792360"/>
          </a:xfrm>
          <a:prstGeom prst="wedgeRoundRectCallout">
            <a:avLst>
              <a:gd name="adj1" fmla="val -62749"/>
              <a:gd name="adj2" fmla="val -3857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C’est pour deux nuits du 7 mai ou 9ma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10"/>
          <p:cNvSpPr/>
          <p:nvPr/>
        </p:nvSpPr>
        <p:spPr>
          <a:xfrm>
            <a:off x="468360" y="3141720"/>
            <a:ext cx="3025800" cy="792000"/>
          </a:xfrm>
          <a:prstGeom prst="wedgeRoundRectCallout">
            <a:avLst>
              <a:gd name="adj1" fmla="val -50787"/>
              <a:gd name="adj2" fmla="val -10010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Est-ce qu’il y une piscin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11"/>
          <p:cNvSpPr/>
          <p:nvPr/>
        </p:nvSpPr>
        <p:spPr>
          <a:xfrm>
            <a:off x="4751280" y="2349360"/>
            <a:ext cx="4141800" cy="503280"/>
          </a:xfrm>
          <a:prstGeom prst="wedgeRoundRectCallout">
            <a:avLst>
              <a:gd name="adj1" fmla="val 54597"/>
              <a:gd name="adj2" fmla="val -97004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Non, mais il y a un sau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13"/>
          <p:cNvSpPr/>
          <p:nvPr/>
        </p:nvSpPr>
        <p:spPr>
          <a:xfrm>
            <a:off x="4751280" y="5373720"/>
            <a:ext cx="4213440" cy="720720"/>
          </a:xfrm>
          <a:prstGeom prst="wedgeRoundRectCallout">
            <a:avLst>
              <a:gd name="adj1" fmla="val 51810"/>
              <a:gd name="adj2" fmla="val -97134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Pas de problème. Je vous la réser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2T11:00:26Z</dcterms:created>
  <dc:creator>Laure S</dc:creator>
  <dc:description/>
  <dc:language>en-US</dc:language>
  <cp:lastModifiedBy>scollett</cp:lastModifiedBy>
  <dcterms:modified xsi:type="dcterms:W3CDTF">2010-03-02T22:53:17Z</dcterms:modified>
  <cp:revision>4</cp:revision>
  <dc:subject/>
  <dc:title>Trouvez l’intrus…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